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FC6E-8D7A-4993-9B65-350D191CA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E1E1-A920-429A-8024-BDA22CAEE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EBFB-F66A-45E6-9438-E7F84F5F7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E7E0-7ADB-4772-8CC6-29DB0F1D5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A9E8C-915F-408C-B6BC-AFDA8225C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2F490-B16D-4579-9A10-10E33D0AA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298F6-A3CB-4E83-BE7B-1598F776B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F7CFE-67EC-4993-B588-A6AFBC436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52164-EB23-4949-8378-A298AE689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2A655-7E10-488B-B2F4-FB276480A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1F421-B15F-4B43-AEB0-097A329F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97CE-5248-4378-8081-9D46054B9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54AB9-80C5-46E0-AF8C-A97D301E9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1ADA1-5EFD-4E8F-9CE7-464E486E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F97A9-71B0-4E24-9E97-8F9C73672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B906B-83A8-497D-81DC-B73208EA4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00F57-B20A-4173-BAC6-354B7CA42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D3A1-AB6B-44C4-B92B-A39606E0D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25D8-8DB9-4945-9088-CF41893C0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EB3E-5DEC-4F53-811C-D4B2D2221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9694-9697-4DC8-8669-62486666C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55B0-B759-4785-9B45-D59A02CBA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65F6-45DA-476A-9718-5E1BB6D3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3EDB-0F81-4E5C-AA7D-94F9281B4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B3D1C-4865-4CF5-8B74-E3CC7A72DFDE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C16C7-4C27-4FDC-8D9A-EAB7A9799BB7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6870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e English often say they have no climat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only ….  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6383520" y="5181120"/>
            <a:ext cx="117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0 poi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09680" y="3688200"/>
            <a:ext cx="487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weather.</a:t>
            </a: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09-01-26T15:06:23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